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8DDF-C385-4F43-A595-B03134009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d5c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8F37-DA4A-4434-85E3-C00912235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d5c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859C-5DD4-424D-8086-91CA75AC4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d5c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3AEB-FD8B-4490-BE9A-17E52125E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D5DFA-1A37-4CFA-B80D-4E1DC5822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d5c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83AEC-576B-49C3-84F8-683E689AA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d5c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D76D3-158D-47CC-B64F-AFFDED1C1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d5c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01C30-CC7A-44E8-98B9-C8B6FC6CF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d5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8F8C8-87C5-457B-B59F-5D71CAF39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C3F50-0B96-42E0-9119-F16C22668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d5c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FB11E-9A2B-4C0F-8D32-CD720009C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d5c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3656-A0BA-4C92-A587-ABC78FE89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d5c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CFCB3-1725-432C-B30E-D52084B86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d5c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7F8BD-1EBA-47D2-AB3D-DBE79F60D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d5c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26326-5675-43D1-A3AD-066AB3AD1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d5c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7CF00-B949-4A19-B9FB-8AA6F21B3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d5c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84987-4A73-4A7E-AF6C-76BD19337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d5c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9218-1E09-46E6-9204-15F1A86E6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d5c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9D90-4321-4307-B541-6D3F9F2FC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d5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B67B-14BF-4789-8F24-E195CEAA7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5CE0-4AE5-4F18-B05A-C9D6C9ECA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d5c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8441-6C83-4547-BAE2-69CD770F4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d5c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35B6-92FF-4203-8F86-F556C37C6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d5c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77AE-F1D1-42AB-A98D-71BC030DE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6b5d"/>
            </a:gs>
            <a:gs pos="100000">
              <a:srgbClr val="28292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4c4e44"/>
                </a:gs>
                <a:gs pos="100000">
                  <a:srgbClr val="2e2f2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4c4e44"/>
                </a:gs>
                <a:gs pos="100000">
                  <a:srgbClr val="2e2f2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4c4e44"/>
                </a:gs>
                <a:gs pos="100000">
                  <a:srgbClr val="2e2f2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45473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45473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45473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45473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45473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45473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45473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45473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45473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45473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45473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45473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45473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4c4e44"/>
                </a:gs>
                <a:gs pos="100000">
                  <a:srgbClr val="2e2f2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4c4e44"/>
                </a:gs>
                <a:gs pos="100000">
                  <a:srgbClr val="2e2f2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686b5d"/>
                </a:gs>
                <a:gs pos="100000">
                  <a:srgbClr val="61645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686b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686b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686b5d"/>
                </a:gs>
                <a:gs pos="100000">
                  <a:srgbClr val="61645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686b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686b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686b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686b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4c4e4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686b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686b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686b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686b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686b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4c4e4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4c4e4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6d5c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6d5c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8EFF3-98B6-4A89-9125-1583A20A5FEE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8be6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4d4f4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d6d5c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c0c64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6b5d"/>
            </a:gs>
            <a:gs pos="100000">
              <a:srgbClr val="28292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4c4e44"/>
                </a:gs>
                <a:gs pos="100000">
                  <a:srgbClr val="2e2f2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4c4e44"/>
                </a:gs>
                <a:gs pos="100000">
                  <a:srgbClr val="2e2f2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4c4e44"/>
                </a:gs>
                <a:gs pos="100000">
                  <a:srgbClr val="2e2f2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45473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45473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45473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45473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45473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45473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45473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45473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45473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45473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45473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45473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45473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4c4e44"/>
                </a:gs>
                <a:gs pos="100000">
                  <a:srgbClr val="2e2f2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4c4e44"/>
                </a:gs>
                <a:gs pos="100000">
                  <a:srgbClr val="2e2f2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686b5d"/>
                </a:gs>
                <a:gs pos="100000">
                  <a:srgbClr val="61645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686b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686b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686b5d"/>
                </a:gs>
                <a:gs pos="100000">
                  <a:srgbClr val="61645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686b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686b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686b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686b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4c4e4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686b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686b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686b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686b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686b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4c4e4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4c4e4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6d5c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6d5c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E7E76-A1E0-4AE4-9463-8479C7B6A19D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6b5d"/>
            </a:gs>
            <a:gs pos="100000">
              <a:srgbClr val="28292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8be67"/>
                </a:solidFill>
                <a:latin typeface="Arial"/>
              </a:rPr>
              <a:t>Me llamo _________ Clase 8 IM</a:t>
            </a:r>
            <a:br>
              <a:rPr sz="4000"/>
            </a:br>
            <a:r>
              <a:rPr b="0" lang="en-US" sz="4000" spc="-1" strike="noStrike">
                <a:solidFill>
                  <a:srgbClr val="58be67"/>
                </a:solidFill>
                <a:latin typeface="Arial"/>
              </a:rPr>
              <a:t>La fecha es el 10 de enero del 2012</a:t>
            </a:r>
            <a:endParaRPr b="0" lang="en-US" sz="4000" spc="-1" strike="noStrike">
              <a:solidFill>
                <a:srgbClr val="d6d5c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2280" y="1447920"/>
            <a:ext cx="88394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Verdana"/>
              </a:rPr>
              <a:t>Propósito # 25: </a:t>
            </a: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¿Como practicamos lo que estamos aprendiendo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Verdana"/>
              </a:rPr>
              <a:t>Actividad Inicial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58be6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Leer p. 100-10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58be6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Copia y completa </a:t>
            </a:r>
            <a:r>
              <a:rPr b="0" lang="es-ES_tradnl" sz="3200" spc="-1" strike="noStrike" u="sng">
                <a:solidFill>
                  <a:srgbClr val="ffffff"/>
                </a:solidFill>
                <a:uFillTx/>
                <a:latin typeface="Verdana"/>
              </a:rPr>
              <a:t>Ejercicio A</a:t>
            </a: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 p. 10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58be6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Completa </a:t>
            </a:r>
            <a:r>
              <a:rPr b="0" lang="es-ES_tradnl" sz="3200" spc="-1" strike="noStrike" u="sng">
                <a:solidFill>
                  <a:srgbClr val="ffffff"/>
                </a:solidFill>
                <a:uFillTx/>
                <a:latin typeface="Verdana"/>
              </a:rPr>
              <a:t>Ejercicio B</a:t>
            </a: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 p. 10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6b5d"/>
            </a:gs>
            <a:gs pos="100000">
              <a:srgbClr val="28292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Repaso</a:t>
            </a:r>
            <a:endParaRPr b="0" lang="en-US" sz="4400" spc="-1" strike="noStrike">
              <a:solidFill>
                <a:srgbClr val="d6d5c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560" y="803160"/>
            <a:ext cx="84582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8be67"/>
                </a:solidFill>
                <a:latin typeface="Times New Roman"/>
              </a:rPr>
              <a:t>I-</a:t>
            </a:r>
            <a:r>
              <a:rPr b="0" i="1" lang="en-US" sz="2800" spc="-1" strike="noStrike">
                <a:solidFill>
                  <a:srgbClr val="58be67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onjugate the following verbs in the Present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28600" y="1447920"/>
          <a:ext cx="8763120" cy="5278320"/>
        </p:xfrm>
        <a:graphic>
          <a:graphicData uri="http://schemas.openxmlformats.org/drawingml/2006/table">
            <a:tbl>
              <a:tblPr/>
              <a:tblGrid>
                <a:gridCol w="2190600"/>
                <a:gridCol w="2190960"/>
                <a:gridCol w="2190600"/>
                <a:gridCol w="2190960"/>
              </a:tblGrid>
              <a:tr h="46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58be67"/>
                          </a:solidFill>
                          <a:latin typeface="Verdana"/>
                        </a:rPr>
                        <a:t>Pon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58be67"/>
                          </a:solidFill>
                          <a:latin typeface="Verdana"/>
                        </a:rPr>
                        <a:t>Hac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58be67"/>
                          </a:solidFill>
                          <a:latin typeface="Verdana"/>
                        </a:rPr>
                        <a:t>Tra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c0c640"/>
                          </a:solidFill>
                          <a:latin typeface="Verdana"/>
                        </a:rPr>
                        <a:t>Y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c0c640"/>
                          </a:solidFill>
                          <a:latin typeface="Verdana"/>
                        </a:rPr>
                        <a:t>T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c0c640"/>
                          </a:solidFill>
                          <a:latin typeface="Verdana"/>
                        </a:rPr>
                        <a:t>Él ella Ud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c0c640"/>
                          </a:solidFill>
                          <a:latin typeface="Verdana"/>
                        </a:rPr>
                        <a:t>Nosotr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c0c640"/>
                          </a:solidFill>
                          <a:latin typeface="Verdana"/>
                        </a:rPr>
                        <a:t>Ellos Ellas U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58be67"/>
                          </a:solidFill>
                          <a:latin typeface="Verdana"/>
                        </a:rPr>
                        <a:t>Sali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58be67"/>
                          </a:solidFill>
                          <a:latin typeface="Verdana"/>
                        </a:rPr>
                        <a:t>Veni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58be67"/>
                          </a:solidFill>
                          <a:latin typeface="Verdana"/>
                        </a:rPr>
                        <a:t>Ten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c0c640"/>
                          </a:solidFill>
                          <a:latin typeface="Verdana"/>
                        </a:rPr>
                        <a:t>Y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c0c640"/>
                          </a:solidFill>
                          <a:latin typeface="Verdana"/>
                        </a:rPr>
                        <a:t>T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c0c640"/>
                          </a:solidFill>
                          <a:latin typeface="Verdana"/>
                        </a:rPr>
                        <a:t>Él ella Ud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c0c640"/>
                          </a:solidFill>
                          <a:latin typeface="Verdana"/>
                        </a:rPr>
                        <a:t>Nosotr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c0c640"/>
                          </a:solidFill>
                          <a:latin typeface="Verdana"/>
                        </a:rPr>
                        <a:t>Ellos Ellas U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6b5d"/>
            </a:gs>
            <a:gs pos="100000">
              <a:srgbClr val="28292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0" y="304560"/>
            <a:ext cx="91440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8be67"/>
                </a:solidFill>
                <a:latin typeface="Times New Roman"/>
              </a:rPr>
              <a:t>II-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Presente Progresivo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What are the parts of the PRESENTE PROGRESIVO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58be6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Verdana"/>
              </a:rPr>
              <a:t>“</a:t>
            </a:r>
            <a:r>
              <a:rPr b="1" lang="en-US" sz="2400" spc="-1" strike="noStrike">
                <a:solidFill>
                  <a:srgbClr val="ff66ff"/>
                </a:solidFill>
                <a:latin typeface="Verdana"/>
              </a:rPr>
              <a:t>Estar” conjugated in the present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58be6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Verdana"/>
              </a:rPr>
              <a:t>“</a:t>
            </a:r>
            <a:r>
              <a:rPr b="1" lang="en-US" sz="2400" spc="-1" strike="noStrike">
                <a:solidFill>
                  <a:srgbClr val="ffff66"/>
                </a:solidFill>
                <a:latin typeface="Verdana"/>
              </a:rPr>
              <a:t>present participle” according to ending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>
            <a:off x="380880" y="2590920"/>
            <a:ext cx="259092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ff"/>
                </a:solidFill>
                <a:latin typeface="Verdana"/>
              </a:rPr>
              <a:t>Esto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ff"/>
                </a:solidFill>
                <a:latin typeface="Verdana"/>
              </a:rPr>
              <a:t>Está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ff"/>
                </a:solidFill>
                <a:latin typeface="Verdana"/>
              </a:rPr>
              <a:t>Est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ff"/>
                </a:solidFill>
                <a:latin typeface="Verdana"/>
              </a:rPr>
              <a:t>Estam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ff"/>
                </a:solidFill>
                <a:latin typeface="Verdana"/>
              </a:rPr>
              <a:t>Está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2589120"/>
            <a:ext cx="25909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Verdana"/>
              </a:rPr>
              <a:t>-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Verdana"/>
              </a:rPr>
              <a:t>-an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4251240"/>
            <a:ext cx="25905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-ER/-I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-ien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867280" y="3200400"/>
            <a:ext cx="304812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Verdana"/>
              </a:rPr>
              <a:t>Traer/Le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Verdana"/>
              </a:rPr>
              <a:t>-</a:t>
            </a:r>
            <a:r>
              <a:rPr b="1" lang="en-US" sz="3600" spc="-1" strike="noStrike">
                <a:solidFill>
                  <a:srgbClr val="ff6600"/>
                </a:solidFill>
                <a:latin typeface="Verdana"/>
              </a:rPr>
              <a:t>Y</a:t>
            </a:r>
            <a:r>
              <a:rPr b="1" lang="en-US" sz="3200" spc="-1" strike="noStrike">
                <a:solidFill>
                  <a:srgbClr val="ff6600"/>
                </a:solidFill>
                <a:latin typeface="Verdana"/>
              </a:rPr>
              <a:t>en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6b5d"/>
            </a:gs>
            <a:gs pos="100000">
              <a:srgbClr val="28292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152280" y="228600"/>
            <a:ext cx="883944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III-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“Saber” y “Conocer”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8be6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en do you use “</a:t>
            </a:r>
            <a:r>
              <a:rPr b="1" lang="en-US" sz="4000" spc="-1" strike="noStrike">
                <a:solidFill>
                  <a:srgbClr val="ff66ff"/>
                </a:solidFill>
                <a:latin typeface="Times New Roman"/>
              </a:rPr>
              <a:t>Saber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”?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8be6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ff"/>
                </a:solidFill>
                <a:latin typeface="Verdana"/>
              </a:rPr>
              <a:t>To know a fact or inform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8be6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ff"/>
                </a:solidFill>
                <a:latin typeface="Verdana"/>
              </a:rPr>
              <a:t>To know how to do somethin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8be6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ff"/>
                </a:solidFill>
                <a:latin typeface="Verdana"/>
              </a:rPr>
              <a:t>When followed by a question wor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8be6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ff"/>
                </a:solidFill>
                <a:latin typeface="Verdana"/>
              </a:rPr>
              <a:t>To know something by heart </a:t>
            </a:r>
            <a:r>
              <a:rPr b="0" i="1" lang="en-US" sz="2800" spc="-1" strike="noStrike">
                <a:solidFill>
                  <a:srgbClr val="ff66ff"/>
                </a:solidFill>
                <a:latin typeface="Verdana"/>
              </a:rPr>
              <a:t>(memory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8be6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en do you use “</a:t>
            </a:r>
            <a:r>
              <a:rPr b="1" lang="en-US" sz="4000" spc="-1" strike="noStrike">
                <a:solidFill>
                  <a:srgbClr val="ff6600"/>
                </a:solidFill>
                <a:latin typeface="Times New Roman"/>
              </a:rPr>
              <a:t>Conocer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”?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8be6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Verdana"/>
              </a:rPr>
              <a:t>To know someone or something very well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8be6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Verdana"/>
              </a:rPr>
              <a:t>When talking about </a:t>
            </a:r>
            <a:r>
              <a:rPr b="1" lang="en-US" sz="2800" spc="-1" strike="noStrike" u="sng">
                <a:solidFill>
                  <a:srgbClr val="ff6600"/>
                </a:solidFill>
                <a:uFillTx/>
                <a:latin typeface="Verdana"/>
              </a:rPr>
              <a:t>A</a:t>
            </a:r>
            <a:r>
              <a:rPr b="0" lang="en-US" sz="2800" spc="-1" strike="noStrike">
                <a:solidFill>
                  <a:srgbClr val="ff6600"/>
                </a:solidFill>
                <a:latin typeface="Verdana"/>
              </a:rPr>
              <a:t> person, don’t forget to add an “</a:t>
            </a:r>
            <a:r>
              <a:rPr b="1" lang="en-US" sz="2800" spc="-1" strike="noStrike" u="sng">
                <a:solidFill>
                  <a:srgbClr val="ff6600"/>
                </a:solidFill>
                <a:uFillTx/>
                <a:latin typeface="Verdana"/>
              </a:rPr>
              <a:t>A</a:t>
            </a:r>
            <a:r>
              <a:rPr b="0" lang="en-US" sz="2800" spc="-1" strike="noStrike">
                <a:solidFill>
                  <a:srgbClr val="ff6600"/>
                </a:solidFill>
                <a:latin typeface="Verdana"/>
              </a:rPr>
              <a:t>” after ‘</a:t>
            </a:r>
            <a:r>
              <a:rPr b="0" i="1" lang="en-US" sz="2800" spc="-1" strike="noStrike">
                <a:solidFill>
                  <a:srgbClr val="ff6600"/>
                </a:solidFill>
                <a:latin typeface="Verdana"/>
              </a:rPr>
              <a:t>conocer’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6b5d"/>
            </a:gs>
            <a:gs pos="100000">
              <a:srgbClr val="28292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304560" y="304560"/>
            <a:ext cx="83818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58be6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ow do you conjugate these verbs?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457200" y="1143000"/>
          <a:ext cx="8229240" cy="5181120"/>
        </p:xfrm>
        <a:graphic>
          <a:graphicData uri="http://schemas.openxmlformats.org/drawingml/2006/table">
            <a:tbl>
              <a:tblPr/>
              <a:tblGrid>
                <a:gridCol w="2743200"/>
                <a:gridCol w="2742840"/>
                <a:gridCol w="2743200"/>
              </a:tblGrid>
              <a:tr h="86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66ff"/>
                          </a:solidFill>
                          <a:latin typeface="Times New Roman"/>
                        </a:rPr>
                        <a:t>Sabe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6600"/>
                          </a:solidFill>
                          <a:latin typeface="Times New Roman"/>
                        </a:rPr>
                        <a:t>Conoce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Y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8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Él Ella U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Nos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Ellos Ellas U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6b5d"/>
            </a:gs>
            <a:gs pos="100000">
              <a:srgbClr val="28292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Ejercicios</a:t>
            </a:r>
            <a:endParaRPr b="0" lang="en-US" sz="4400" spc="-1" strike="noStrike">
              <a:solidFill>
                <a:srgbClr val="d6d5c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8be6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pia y complet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Ejercicio 1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p. 103 (1-5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8be6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mplet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Ejercicio 2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p. 103 (1-5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8be6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pia y complet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Ejercicio 3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p. 103(1-6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ORKBOO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8be6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mpleta 46-47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8be6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RING QUIZ 5 SIGNED!!!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>
            <a:off x="457200" y="3763800"/>
            <a:ext cx="8229600" cy="8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Tarea # 25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1T22:40:30Z</dcterms:created>
  <dc:creator>Helen Zumaeta</dc:creator>
  <dc:description/>
  <dc:language>en-US</dc:language>
  <cp:lastModifiedBy>Helen Zumaeta</cp:lastModifiedBy>
  <dcterms:modified xsi:type="dcterms:W3CDTF">2012-01-10T14:59:44Z</dcterms:modified>
  <cp:revision>15</cp:revision>
  <dc:subject/>
  <dc:title>Me llamo _________ Clase 7 IM La fecha es el 2 de diciembre del 2011</dc:title>
</cp:coreProperties>
</file>